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818-D396-4E37-8DA1-806D5541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724-F228-4102-93E7-D06EC98C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D6B-82E3-4505-9255-D72A18F7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9B6-E64B-4D8E-B790-0C637147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7B6-1CCE-4BD3-BE53-BD67B3A4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10A3-5949-4E2D-879D-250D6A96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0DF-8442-4153-A29C-875694D4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AE2-CB5F-493B-8394-B8CA459A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263-6F9B-4B9C-A9F3-76550943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D8E-B9FE-4845-A0D5-DB4F382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E16-C156-40DE-A941-FEC59B7A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BA5-E383-49BA-956C-F49BB386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B983-E299-45D3-A999-7F92E6CEAC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52280" y="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lringer 3/20/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12" descr="hagia_sophia_1"/>
          <p:cNvPicPr/>
          <p:nvPr/>
        </p:nvPicPr>
        <p:blipFill>
          <a:blip r:embed="rId1"/>
          <a:stretch/>
        </p:blipFill>
        <p:spPr>
          <a:xfrm>
            <a:off x="4578480" y="6480"/>
            <a:ext cx="4559040" cy="3138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>
            <a:off x="152280" y="609480"/>
            <a:ext cx="4343400" cy="180036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about the notes we took the other day, then answer the following questions:  First 5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152280" y="3103560"/>
            <a:ext cx="8839440" cy="359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aac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Why did the Emperor Constantine move his capital to the eastern side of the Roman Empire? (Give 2 Reas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nstantinople was supposed to be the “New ____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se the book to find the definition of the art form </a:t>
            </a:r>
            <a:r>
              <a:rPr b="0" lang="en-US" sz="2400" spc="-1" strike="noStrike" u="sng">
                <a:solidFill>
                  <a:srgbClr val="262626"/>
                </a:solidFill>
                <a:uFillTx/>
                <a:latin typeface="Arial"/>
              </a:rPr>
              <a:t>mosaic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that we discussed yesterday.  Write the definition you find in your book for the ans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sing the illustration on page 355, name two ways the city of Constantinople was prot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20:10:04Z</dcterms:created>
  <dc:creator>admin</dc:creator>
  <dc:description/>
  <dc:language>en-US</dc:language>
  <cp:lastModifiedBy>admin</cp:lastModifiedBy>
  <dcterms:modified xsi:type="dcterms:W3CDTF">2012-03-19T19:13:24Z</dcterms:modified>
  <cp:revision>21</cp:revision>
  <dc:subject/>
  <dc:title>Slide 1</dc:title>
</cp:coreProperties>
</file>